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4.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5.jpeg" ContentType="image/jpeg"/>
  <Override PartName="/ppt/media/image14.jpeg" ContentType="image/jpeg"/>
  <Override PartName="/ppt/media/image16.wmf" ContentType="image/x-wmf"/>
  <Override PartName="/ppt/media/image1.jpeg" ContentType="image/jpeg"/>
  <Override PartName="/ppt/media/image2.jpeg" ContentType="image/jpeg"/>
  <Override PartName="/ppt/media/image3.gif" ContentType="image/gif"/>
  <Override PartName="/ppt/media/image6.wmf" ContentType="image/x-wmf"/>
  <Override PartName="/ppt/media/image11.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7A85620-599A-4DE1-99CF-78DF6F7A6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287440" y="533520"/>
            <a:ext cx="2625840" cy="1969920"/>
          </a:xfrm>
          <a:prstGeom prst="rect">
            <a:avLst/>
          </a:prstGeom>
          <a:ln w="0">
            <a:noFill/>
          </a:ln>
        </p:spPr>
      </p:sp>
      <p:sp>
        <p:nvSpPr>
          <p:cNvPr id="164"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ofreader</a:t>
            </a:r>
            <a:r>
              <a:rPr b="0" lang="en-US" sz="1200" spc="-1" strike="noStrike">
                <a:solidFill>
                  <a:srgbClr val="000000"/>
                </a:solidFill>
                <a:latin typeface="Times New Roman"/>
              </a:rPr>
              <a:t>—The editor has final responsibility for proofreading and editing. The editor, and/or at least one staff member should thoroughly scrutinize the final copy for all errors before the last copy is printed, looking it over critically and carefully for typographical errors, punctuation mistakes, misspelled words, and poor sentence structure. Proofreaders should be thorough from beginning to end, using tips such as reading sentences backwards, reading with someone else, reading out loud, or using a magnifying glass to help catch errors. Having a good proofreading rule book is essential,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ofreader also should take time to lay the pages that are adjoining each other side by side. Does the newsletter have the right look? Is it too crowded? Do the headlines read well? Are there too many bulleted sections, photos, or graphics/text boxes? When the desired look has been achieved, it’s time for the next phase, pri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ant your newsletter to be one you are proud of and one that meets your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hire a consultant experienced in newsletter production as you think about and develop your newsletter. They can provide helpful advice, and it would be wise to let yourself benefit from the expertise of someone who knows more than you, especially as you begi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389320" y="380880"/>
            <a:ext cx="2422440" cy="1817640"/>
          </a:xfrm>
          <a:prstGeom prst="rect">
            <a:avLst/>
          </a:prstGeom>
          <a:ln w="0">
            <a:noFill/>
          </a:ln>
        </p:spPr>
      </p:sp>
      <p:sp>
        <p:nvSpPr>
          <p:cNvPr id="166" name="PlaceHolder 2"/>
          <p:cNvSpPr>
            <a:spLocks noGrp="1"/>
          </p:cNvSpPr>
          <p:nvPr>
            <p:ph type="body"/>
          </p:nvPr>
        </p:nvSpPr>
        <p:spPr>
          <a:xfrm>
            <a:off x="701280" y="2361960"/>
            <a:ext cx="5607000" cy="62370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LETTER BASICS: WHAT TO CONSID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expectations (or your company’s expectations)</a:t>
            </a:r>
            <a:r>
              <a:rPr b="0" lang="en-US" sz="1200" spc="-1" strike="noStrike">
                <a:solidFill>
                  <a:srgbClr val="000000"/>
                </a:solidFill>
                <a:latin typeface="Times New Roman"/>
              </a:rPr>
              <a:t>—What do you want this newsletter to accomplish for the target audience? What are you willing to do to make this happen? What do you want your staff to do to make this happen? What are you willing to let your staff do to make this happen? Review your organization’s mission and vision in light of the expectations you hav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s and Other Boring (But Necessary) Matters</a:t>
            </a:r>
            <a:r>
              <a:rPr b="0" lang="en-US" sz="1200" spc="-1" strike="noStrike">
                <a:solidFill>
                  <a:srgbClr val="000000"/>
                </a:solidFill>
                <a:latin typeface="Times New Roman"/>
              </a:rPr>
              <a:t>—Decide how much money is available for the newsletter, then make a realistic budget. Take time to prioritize every aspect of your newsletter production dream. Scale back, if necessary, but keep your vision. The amount of money available affects the final produ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Paper, Supplies</a:t>
            </a:r>
            <a:r>
              <a:rPr b="0" lang="en-US" sz="1200" spc="-1" strike="noStrike">
                <a:solidFill>
                  <a:srgbClr val="000000"/>
                </a:solidFill>
                <a:latin typeface="Times New Roman"/>
              </a:rPr>
              <a:t>—What types of computer software do you need to produce a newsletter you can be proud of? What kind and weight of paper will give your newsletter the look you want? What supplies will you need? Some ideas: clip art books, proofreaders’ tools, printer cartridges, or typewriter ribbons, just to name a few.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ffing</a:t>
            </a:r>
            <a:r>
              <a:rPr b="0" lang="en-US" sz="1200" spc="-1" strike="noStrike">
                <a:solidFill>
                  <a:srgbClr val="000000"/>
                </a:solidFill>
                <a:latin typeface="Times New Roman"/>
              </a:rPr>
              <a:t>—Is it a staff of one (you), or a staff of five? Is the staff full time or part time, paid or volunteer?  How much money is designated for staff? Is their time strictly devoted to the newsletter, or do they have other responsibiliti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Plans</a:t>
            </a:r>
            <a:r>
              <a:rPr b="0" lang="en-US" sz="1200" spc="-1" strike="noStrike">
                <a:solidFill>
                  <a:srgbClr val="000000"/>
                </a:solidFill>
                <a:latin typeface="Times New Roman"/>
              </a:rPr>
              <a:t> – How many pages will your newsletter be? Are you planning a full-color newsletter or a black-and-white newsletter? Is there adequate staff to meet all of the production plans? If not, how will you cover the areas that are deficient? How will the newsletter be distributed, and to whom? Do you have the equipment, software, books, or supplies to begin produc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Costs (Printing)</a:t>
            </a:r>
            <a:r>
              <a:rPr b="0" lang="en-US" sz="1200" spc="-1" strike="noStrike">
                <a:solidFill>
                  <a:srgbClr val="000000"/>
                </a:solidFill>
                <a:latin typeface="Times New Roman"/>
              </a:rPr>
              <a:t>—Will the newsletter be color or black and white?  Will it be typed on computer or a typewriter? Will it be camera-ready (completely ready so that it only has to be duplicated) or will an in-house department, or outside printer, have to set headlines, add photos, etc? These choices can make a difference of thousands of dollars per y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ribution</a:t>
            </a:r>
            <a:r>
              <a:rPr b="0" lang="en-US" sz="1200" spc="-1" strike="noStrike">
                <a:solidFill>
                  <a:srgbClr val="000000"/>
                </a:solidFill>
                <a:latin typeface="Times New Roman"/>
              </a:rPr>
              <a:t>—How is the newsletter being mailed out—first class, non-profit, bulk mail, or DHL? Have a complete understanding of the various types of mail service available and the time it takes for delivery of the mail before deciding which is the best service for you. Also, determine the number of copies being mailed out. Final costs for the newsletter will be based on all of these th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9320" y="533520"/>
            <a:ext cx="2422440" cy="1817640"/>
          </a:xfrm>
          <a:prstGeom prst="rect">
            <a:avLst/>
          </a:prstGeom>
          <a:ln w="0">
            <a:noFill/>
          </a:ln>
        </p:spPr>
      </p:sp>
      <p:sp>
        <p:nvSpPr>
          <p:cNvPr id="168" name="PlaceHolder 2"/>
          <p:cNvSpPr>
            <a:spLocks noGrp="1"/>
          </p:cNvSpPr>
          <p:nvPr>
            <p:ph type="body"/>
          </p:nvPr>
        </p:nvSpPr>
        <p:spPr>
          <a:xfrm>
            <a:off x="701280" y="2742840"/>
            <a:ext cx="5607000" cy="5856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WS—HEART OF YOUR NEWS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kinds of articles can be used in the newsletter—hard news and feature stories. The </a:t>
            </a:r>
            <a:r>
              <a:rPr b="0" lang="en-US" sz="1200" spc="-1" strike="noStrike" u="sng">
                <a:solidFill>
                  <a:srgbClr val="000000"/>
                </a:solidFill>
                <a:uFillTx/>
                <a:latin typeface="Times New Roman"/>
              </a:rPr>
              <a:t>hard news story</a:t>
            </a:r>
            <a:r>
              <a:rPr b="0" lang="en-US" sz="1200" spc="-1" strike="noStrike">
                <a:solidFill>
                  <a:srgbClr val="000000"/>
                </a:solidFill>
                <a:latin typeface="Times New Roman"/>
              </a:rPr>
              <a:t> should have a lead paragraph that gives the most important information, or answers the questions of who, what, where, when, why, and how of the story. Paragraphs following would decrease in order of importance.  The </a:t>
            </a:r>
            <a:r>
              <a:rPr b="0" lang="en-US" sz="1200" spc="-1" strike="noStrike" u="sng">
                <a:solidFill>
                  <a:srgbClr val="000000"/>
                </a:solidFill>
                <a:uFillTx/>
                <a:latin typeface="Times New Roman"/>
              </a:rPr>
              <a:t>feature story</a:t>
            </a:r>
            <a:r>
              <a:rPr b="0" lang="en-US" sz="1200" spc="-1" strike="noStrike">
                <a:solidFill>
                  <a:srgbClr val="000000"/>
                </a:solidFill>
                <a:latin typeface="Times New Roman"/>
              </a:rPr>
              <a:t> is actually a hard news story, but goes more in-depth and is more outstanding in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rt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 current, not outdate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erify the accuracy of all facts and statistics used as well as their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variety to encourage, educate, stimulate, or prompt the reader to 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articles that tell who, what, when, where, how, and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ary the length of news 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 different styles of writing in each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interesting headlines that catch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rite stories that progress well and are succinct and to th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n’t be redund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n’t over-simplify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being condescending to any racial, ethnic, or religious group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35160" y="457200"/>
            <a:ext cx="2320920" cy="1741320"/>
          </a:xfrm>
          <a:prstGeom prst="rect">
            <a:avLst/>
          </a:prstGeom>
          <a:ln w="0">
            <a:noFill/>
          </a:ln>
        </p:spPr>
      </p:sp>
      <p:sp>
        <p:nvSpPr>
          <p:cNvPr id="170" name="PlaceHolder 2"/>
          <p:cNvSpPr>
            <a:spLocks noGrp="1"/>
          </p:cNvSpPr>
          <p:nvPr>
            <p:ph type="body"/>
          </p:nvPr>
        </p:nvSpPr>
        <p:spPr>
          <a:xfrm>
            <a:off x="609120" y="2590920"/>
            <a:ext cx="5607000" cy="6999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SCHED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ation is the key word when planning the newsletter. This helps insure the success of the issue. Organizing each issue beforehand gives the editor time to consider the right people for the assignments and to dialogue with them regarding what is expected. Thus, the editor can make assignments in a timely manner. Here are some steps to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 the Issue</a:t>
            </a:r>
            <a:r>
              <a:rPr b="0" lang="en-US" sz="1200" spc="-1" strike="noStrike">
                <a:solidFill>
                  <a:srgbClr val="000000"/>
                </a:solidFill>
                <a:latin typeface="Times New Roman"/>
              </a:rPr>
              <a:t>—Map out what is to be in each issue at least two months before the issue is to be produced. If desired, outline every story and contemplate what photos and clip art would enhance the articles. A suggested layout of each page might als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ssignments and  Follow Up</a:t>
            </a:r>
            <a:r>
              <a:rPr b="0" lang="en-US" sz="1200" spc="-1" strike="noStrike">
                <a:solidFill>
                  <a:srgbClr val="000000"/>
                </a:solidFill>
                <a:latin typeface="Times New Roman"/>
              </a:rPr>
              <a:t>—The editor should let each staff member know what articles they are responsible for, approximately how long (how many words) each article is to be, the main focus of the story along with supporting information that may be needed, and when the finished copy is due. It would be wise to give a reminder/follow up call to the writers about two weeks before the article is due, especially to staff members chronically late with previous assignments, to see how the work is progress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701280" y="914040"/>
            <a:ext cx="5607000" cy="76849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adlines</a:t>
            </a:r>
            <a:r>
              <a:rPr b="0" lang="en-US" sz="1200" spc="-1" strike="noStrike">
                <a:solidFill>
                  <a:srgbClr val="000000"/>
                </a:solidFill>
                <a:latin typeface="Times New Roman"/>
              </a:rPr>
              <a:t>—The deadlines set by the editor are somewhat dependent on whether the editor/staff are juggling other duties. Schedules would have to be adjusted accordingly as a longer preparation time might be needed if there is major multi-tasking.  If the editor and staff work only on the newsletter, less time might be required. Deadlines are also dependent on how the newsletter will be published (in-house on a copier, in-house to a printing department, to an outside publisher, etc) and the delivery system to be utilized for getting the mail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ypical schedule could look something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ning the issue/assignments given: Februar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llow up: February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adline (for receipt of all assignments): </a:t>
            </a:r>
            <a:r>
              <a:rPr b="1" lang="en-US" sz="1200" spc="-1" strike="noStrike">
                <a:solidFill>
                  <a:srgbClr val="000000"/>
                </a:solidFill>
                <a:latin typeface="Times New Roman"/>
              </a:rPr>
              <a:t>	</a:t>
            </a:r>
            <a:r>
              <a:rPr b="1" lang="en-US" sz="1200" spc="-1" strike="noStrike">
                <a:solidFill>
                  <a:srgbClr val="000000"/>
                </a:solidFill>
                <a:latin typeface="Times New Roman"/>
              </a:rPr>
              <a:t>February 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ng: March 1 - March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top publishing, if used):   March 8 and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ofreading and corrections: March 10 –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 edit and corrections, if needed: March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printer: March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to office for mailing preparation: March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 out: March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139840" y="533520"/>
            <a:ext cx="2540160" cy="1904760"/>
          </a:xfrm>
          <a:prstGeom prst="rect">
            <a:avLst/>
          </a:prstGeom>
          <a:ln w="0">
            <a:noFill/>
          </a:ln>
        </p:spPr>
      </p:sp>
      <p:sp>
        <p:nvSpPr>
          <p:cNvPr id="173" name="PlaceHolder 2"/>
          <p:cNvSpPr>
            <a:spLocks noGrp="1"/>
          </p:cNvSpPr>
          <p:nvPr>
            <p:ph type="body"/>
          </p:nvPr>
        </p:nvSpPr>
        <p:spPr>
          <a:xfrm>
            <a:off x="701280" y="2514600"/>
            <a:ext cx="5607000" cy="60847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LETTER PREPAR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prepare, keep the newsletter’s purpose and your target audience in mind. Now, gather pertinent information and start writing. Some suggested columns for your newsletter are: From the Editor, Calendar of Events, What’s Happening, News Features, Book Reviews, Special of the Month Feature, etc. This decided, have a variety of column lengths so every article doesn’t look the sam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components that deserve atten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Plates and Mastheads</a:t>
            </a:r>
            <a:r>
              <a:rPr b="0" lang="en-US" sz="1200" spc="-1" strike="noStrike">
                <a:solidFill>
                  <a:srgbClr val="000000"/>
                </a:solidFill>
                <a:latin typeface="Times New Roman"/>
              </a:rPr>
              <a:t>—The nameplate gives the name of your newsletter, publisher, date and issue number, publisher’s name, and possibly a statement of purpose (called a tagline). This identifies who you are and is usually at the top of the first pa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head has the editorial information (newsletter editor and staff). It’s good to let readers know who is responsible for producing the newsletter.  This could be placed on the inside cover or on the back cover. It could be a simple line item, but if space allows a box containing the information would be preferabl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lines and Sub-headlines</a:t>
            </a:r>
            <a:r>
              <a:rPr b="0" lang="en-US" sz="1200" spc="-1" strike="noStrike">
                <a:solidFill>
                  <a:srgbClr val="000000"/>
                </a:solidFill>
                <a:latin typeface="Times New Roman"/>
              </a:rPr>
              <a:t>—Headlines draw the reader into the article. Keep them short and to the point. The choice of fonts for headlines and sub-headlines is quite important. A headline font size should be between 16 point and 22 point. It should not overwhelm the page, but catch the attention of the reader. It should stand out from body text. A sub-headline is a bit smaller than the headline and provides a little more information, to enhance the headline or provide additional information that will be in the story. Vary the length of the headlines and sub-headlines in each newsletter—one short line, several two liners, a headline along with a sub-headlin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umns</a:t>
            </a:r>
            <a:r>
              <a:rPr b="0" lang="en-US" sz="1200" spc="-1" strike="noStrike">
                <a:solidFill>
                  <a:srgbClr val="000000"/>
                </a:solidFill>
                <a:latin typeface="Times New Roman"/>
              </a:rPr>
              <a:t>—Will a one, two, three, or four column newsletter be appealing to you and to your readers? Spend time browsing different newsletters for what you like, then discuss with your desktop publisher the look you want for the newsletter. You need to be somewhat consistent each time you publish, allowing for some creativity in layout so your overall look doesn’t become bor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 Text Font</a:t>
            </a:r>
            <a:r>
              <a:rPr b="0" lang="en-US" sz="1200" spc="-1" strike="noStrike">
                <a:solidFill>
                  <a:srgbClr val="000000"/>
                </a:solidFill>
                <a:latin typeface="Times New Roman"/>
              </a:rPr>
              <a:t>—Many editors may concentrate heavily on obtaining the news and give little thought to the type and size of the fonts used, headlines or body text, choice of graphics, clip art or photos, or layout and design. How well your newsletter is received is contingent on the area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56840" y="609480"/>
            <a:ext cx="5775480" cy="8229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nts (Typeface)</a:t>
            </a:r>
            <a:r>
              <a:rPr b="0" lang="en-US" sz="1200" spc="-1" strike="noStrike">
                <a:solidFill>
                  <a:srgbClr val="000000"/>
                </a:solidFill>
                <a:latin typeface="Times New Roman"/>
              </a:rPr>
              <a:t>—Size and particular font type vary greatly, so choosing the correct one could be tricky. Here are some quick pointers to help you get start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imple, easy-to-read fonts, especially for the body tex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italics or boldface sparingly, primarily for emphasis on one or two words; no fancy or “curly q” letters. This makes reading har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nly 2 or 3 different fonts in the newslet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face is measured in point size. and a point is 1/72 of an in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th of letters varies with the font style. So, for example, one 12 point typeface could look smaller than another and thus take up less roo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ll capital letters as they are difficult to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headlines apart from the basic article by using a larger, boldface type and possibly even a different fo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white space” so your page isn’t crowded with too much body text. Pictures, large headlines, sub-headlines, captions, text or graphic boxes, or some combination can be used to vary the look of the newslet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eneral rule, do not fill your page with more than half text. People today want to read less and be entertained more. If, however, you have a dedicated following, you might be able to have up to two-thirds body text and keep your reader’s attention, but the aesthetic appeal of your newsletter will suffer as a resul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ducing the newsletter on your computer you probably have a suitable number of fonts to choose from, but when using a professional printer to typeset the news you, no doubt, have endless choices. Your font choices would be much more limited if you use a typewri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p Art, Photographs, and Information Boxes</a:t>
            </a:r>
            <a:r>
              <a:rPr b="0" lang="en-US" sz="1200" spc="-1" strike="noStrike">
                <a:solidFill>
                  <a:srgbClr val="000000"/>
                </a:solidFill>
                <a:latin typeface="Times New Roman"/>
              </a:rPr>
              <a:t>—These can be used to support your article. Look</a:t>
            </a:r>
            <a:r>
              <a:rPr b="1" lang="en-US" sz="1200" spc="-1" strike="noStrike">
                <a:solidFill>
                  <a:srgbClr val="000000"/>
                </a:solidFill>
                <a:latin typeface="Times New Roman"/>
              </a:rPr>
              <a:t> </a:t>
            </a:r>
            <a:r>
              <a:rPr b="0" lang="en-US" sz="1200" spc="-1" strike="noStrike">
                <a:solidFill>
                  <a:srgbClr val="000000"/>
                </a:solidFill>
                <a:latin typeface="Times New Roman"/>
              </a:rPr>
              <a:t>over materials that appeal to you. How will it reproduce in your newsletter? If you’re not sure how it will reproduce, duplicate a copy and see how the contrast and sharpness is on the duplicated page. If it’s too fuzzy, too dark, or too light, choose something els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p Art</a:t>
            </a:r>
            <a:r>
              <a:rPr b="0" lang="en-US" sz="1200" spc="-1" strike="noStrike">
                <a:solidFill>
                  <a:srgbClr val="000000"/>
                </a:solidFill>
                <a:latin typeface="Times New Roman"/>
              </a:rPr>
              <a:t>—The internet has a wealth of clip art that you can browse through to enhance your newsletter page. Some are of great quality; others not. Spend time finding some of the websites. You could also purchase clip art, but be sure to choose the categories that will lend themselves well to your newsletter before buying. Also know the file formats you need for the software you have: generally, tif and bmp files can be read easily by your software if you are using your computer, and if you have software for photos, jpeg (or jpg) would be ide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ogs of clip art can be purchased for your use and you would simply select what you want, scan it, save it on your computer, then import that graphic into your document (or copy and paste it into the document) If you are using a typewriter, you can still use clip art. Simply select the clip art, duplicate it at the size you want, and glue it on your printed page. As with computer graphics, check first that the quality is good and will reproduce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701280" y="533160"/>
            <a:ext cx="5607000" cy="80658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otographs</a:t>
            </a:r>
            <a:r>
              <a:rPr b="0" lang="en-US" sz="1200" spc="-1" strike="noStrike">
                <a:solidFill>
                  <a:srgbClr val="000000"/>
                </a:solidFill>
                <a:latin typeface="Times New Roman"/>
              </a:rPr>
              <a:t>—Photographs should tell a story even if no caption appears under it. As you decide which photos to use, ask yourself, “Is this photo captivating, is it in focus, is there good contrast, does it enhance the feature article?”  If not, select a different photo. If you’re thinking of contracting with a photographer, check their level of competency and discuss your needs/expectations before you sign on the dotted line. In this age of digital photography, you can often take your own pictures. Bear in mind, though, that you must have adequate lighting and a good quality camera if you expect to get good pictures. Framing your subjects at close range helps too, because cropping undesired parts of the digital picture decreases the quality of the photos. Pictures composed properly ensure optimum quality.  A good book or a course on digital photography would be a wise investm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 Boxes</a:t>
            </a:r>
            <a:r>
              <a:rPr b="0" lang="en-US" sz="1200" spc="-1" strike="noStrike">
                <a:solidFill>
                  <a:srgbClr val="000000"/>
                </a:solidFill>
                <a:latin typeface="Times New Roman"/>
              </a:rPr>
              <a:t>—Different types of lines, thickness, coloring, fills, and gradients are available too. The text box can be used to emphasize some interesting or informative note from the article without detracting from it. It can be created in your word processing softwa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hs and Charts</a:t>
            </a:r>
            <a:r>
              <a:rPr b="0" lang="en-US" sz="1200" spc="-1" strike="noStrike">
                <a:solidFill>
                  <a:srgbClr val="000000"/>
                </a:solidFill>
                <a:latin typeface="Times New Roman"/>
              </a:rPr>
              <a:t>—Instead of the news article, an interesting variation in giving information is through the use of graphs and charts. Your computer word processing software usually has the capability to create a variety of graphs or cha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out and Design</a:t>
            </a:r>
            <a:r>
              <a:rPr b="0" lang="en-US" sz="1200" spc="-1" strike="noStrike">
                <a:solidFill>
                  <a:srgbClr val="000000"/>
                </a:solidFill>
                <a:latin typeface="Times New Roman"/>
              </a:rPr>
              <a:t>—Once the newsletter is initially typed it should be creatively laid out on the page. This is an important aspect of production and the person (desktop publisher) doing this should have ample time to work on this and to experiment to give the best layout possible. How much time is needed depends on the skill level of the person doing the desktop work. The newsletter would be typed, and after editing, printed “camera ready” to take to a printer. The disk would often also be included. In some cases, the newsletter is set by a typesetter or printer, so you would need to work with that person/organization to see how much preparation time they ne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out and design of the page is vital, so determine how each page will look before actual typing begins. This will also save time with making many changes later on. Remember your target audience and what you are trying to relay. Layout of the page includes the size of the page, margins, number of columns, font type and size for headlines, body text, photos, text boxes, graphs, or charts to be used. Decide what the main features are, as they deserve prominence on the page, then consider the text boxes, graphics, photos, or other features that could be included. These things enhance the newsletter, supplement the news stories, or provide additional inform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290680" y="380880"/>
            <a:ext cx="2116080" cy="1589040"/>
          </a:xfrm>
          <a:prstGeom prst="rect">
            <a:avLst/>
          </a:prstGeom>
          <a:ln w="0">
            <a:noFill/>
          </a:ln>
        </p:spPr>
      </p:sp>
      <p:sp>
        <p:nvSpPr>
          <p:cNvPr id="177" name="PlaceHolder 2"/>
          <p:cNvSpPr>
            <a:spLocks noGrp="1"/>
          </p:cNvSpPr>
          <p:nvPr>
            <p:ph type="body"/>
          </p:nvPr>
        </p:nvSpPr>
        <p:spPr>
          <a:xfrm>
            <a:off x="533160" y="2133720"/>
            <a:ext cx="5607000" cy="6465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N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ewsletter is being printed in-house, you probably have an idea how long it takes to compete the printing and get it back. When you take it for printing, nonetheless, ask approximately when you can expect it and follow-up if too much time elapses before it is returned to you. You might want to have a sample copy printed for you to approve before printing the entire quantity, so you know the newsletter looks the same as it did when you printed it out by computer. Sometimes, with varying software there are conflicts which change fonts, spacing, and the general look of the newslet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outside agencies, more time must be allowed for sending the work out, printing, and delivery of the newsletter back to you. One week may be adequate in some cases, but this depends on the number of jobs ahead of yours, equipment, staffing, and dependability for printing newsletters. Get an estimated time for delivery of the job when you drop it off. Be prepared to wait two weeks or more if the printer has many jobs before yo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used for printing will, as said previously, depend on availability of funds. Typically, a week or more should be given for professional out-of-office printing; a week for in-house printing, and a day or two for duplicating on a copi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ING PREPA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 newsletter be folded? Will it be hand addressed or will labels be used? What type of mail delivery will be used? These things determine the time needed to get the newsletter mailing list ready. Naturally, the newer your technology, the less preparation time will be required, and the sooner your newsletter will be in the hands of the read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ING DISTRIBU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sletter can be delivered several ways: in-house, first class mail, non-profit mailing, bulk mail, or DHL. The dissemination of the newsletter ultimately depends on the service you select for mailing and your postal system. You might want to check this out before decid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best to allow more than ample time for the overall production so time allotted for mail delivery is adequat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MOTION AND DISTRIBU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your newsletter to the public should rate high on your to-do list. Make sure that your mailing list is kept current. Your organization loses money every time a newsletter is discarded for lack of a correct address, or returned to you for re-mailing because of an incorrect addre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your regular mailing list, solicit more names for your mailing list. If your newsletter is by subscription only, make some free copies available to significant persons in, or directly involved with, your organization so they will be kept abreast of pertinent new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85440" y="53352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TIS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newsletter has space to spare, or if you are interested in helping the newsletter pay for itself, think about having simple advertisements placed in it. Remember that you should have a good quality publication with a readership that will be interested in the types of advertisements that may be placed. Keep in mind what the advertising copy will look like when you do your page layout. You could choose to assist the person with design (for a fee), or ask them to supply a camera-ready ad that could be scanned or duplicat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COPYRIGHT PROTECTED MATERIAL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original materials is preferable to copying materials that others have written. There are times, though, when articles or photos previously published are used. Under no circumstances should any material be used without prior permission from the author or without giving credit for the material that is used. This is unethical and could get you in trouble with the legal system if you have violated the copyright of the author. Know the source of the materials you are using, obtain prior permission, and give credit, or don’t use the materi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MORE ABOUT NEWSLETTER PRODUC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aspects of producing a newsletter. Numerous books can assist you in learning. This information can help get you started. For additional assistance in building your knowledge and skills, take a class or seminar available in your area. Such classes can increase your efficiency and can inspire you to be more creative in the production of your newslet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You Want to Produce a News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a newsletter is certainly an admirable goal, but couldn’t you just as easily pick up the phone or send an e-mail? Some questions that come to mind are: How will having your news in print benefit you or your organization? Do you (or someone on your staff) have the know-how to design a professional looking newsletter? Is additional staff available to handle newsletter production, and if not, is there a professional person or organization that can handle it for you? Is money budgeted to cover newsletter expenses? Do you know the target audience for the newsletter?  These are very important questions and we will answer them in this semina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057400" y="533520"/>
            <a:ext cx="2362320" cy="1981080"/>
          </a:xfrm>
          <a:prstGeom prst="rect">
            <a:avLst/>
          </a:prstGeom>
          <a:ln w="0">
            <a:noFill/>
          </a:ln>
        </p:spPr>
      </p:sp>
      <p:sp>
        <p:nvSpPr>
          <p:cNvPr id="180"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SING THOUGHTS </a:t>
            </a:r>
            <a:br>
              <a:rPr sz="1200"/>
            </a:br>
            <a:r>
              <a:rPr b="0" lang="en-US" sz="1200" spc="-1" strike="noStrike">
                <a:solidFill>
                  <a:srgbClr val="000000"/>
                </a:solidFill>
                <a:latin typeface="Times New Roman"/>
              </a:rPr>
              <a:t>In closing, keep these things in mind as you prepare your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rite for your intended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eep the purpose of your newsletter in proper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duce your news the best way you can with the monies you hav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elect your newsletter staff based on expertise</a:t>
            </a:r>
            <a:r>
              <a:rPr b="1" lang="en-US" sz="1200" spc="-1" strike="noStrike">
                <a:solidFill>
                  <a:srgbClr val="000000"/>
                </a:solidFill>
                <a:latin typeface="Times New Roman"/>
              </a:rPr>
              <a:t>, </a:t>
            </a:r>
            <a:r>
              <a:rPr b="0" lang="en-US" sz="1200" spc="-1" strike="noStrike">
                <a:solidFill>
                  <a:srgbClr val="000000"/>
                </a:solidFill>
                <a:latin typeface="Times New Roman"/>
              </a:rPr>
              <a:t>knowledge, availability, and dedication to the company’s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Give assignments and deadlines for every issu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286000" y="685800"/>
            <a:ext cx="2476440" cy="2046240"/>
          </a:xfrm>
          <a:prstGeom prst="rect">
            <a:avLst/>
          </a:prstGeom>
          <a:ln w="0">
            <a:noFill/>
          </a:ln>
        </p:spPr>
      </p:sp>
      <p:sp>
        <p:nvSpPr>
          <p:cNvPr id="182"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Use an appealing layout and design with fonts that are easy to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Graphics and photos should help tell 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Text boxes can highlight a portion of an article, or provide addition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Proofread, proofread, proof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on’t use someone else’s material without per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973680" y="195120"/>
            <a:ext cx="2082600" cy="1562400"/>
          </a:xfrm>
          <a:prstGeom prst="rect">
            <a:avLst/>
          </a:prstGeom>
          <a:ln w="0">
            <a:noFill/>
          </a:ln>
        </p:spPr>
      </p:sp>
      <p:sp>
        <p:nvSpPr>
          <p:cNvPr id="150" name="PlaceHolder 2"/>
          <p:cNvSpPr>
            <a:spLocks noGrp="1"/>
          </p:cNvSpPr>
          <p:nvPr>
            <p:ph type="body"/>
          </p:nvPr>
        </p:nvSpPr>
        <p:spPr>
          <a:xfrm>
            <a:off x="310680" y="1523880"/>
            <a:ext cx="6388200" cy="7499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THING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ontemplate newsletter production, you should consider the purpose of the newsletter, your target audience, how often you plan to publish, the kind of news to be shared, the number of people on the mailing list, and more. Discuss these things with your staff. It is vital that you have a capable production team that can plan adequately and create a sound foundation. This is important to the overall success of the newsletter. Things to discus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the Newsletter—</a:t>
            </a:r>
            <a:r>
              <a:rPr b="0" lang="en-US" sz="1200" spc="-1" strike="noStrike">
                <a:solidFill>
                  <a:srgbClr val="000000"/>
                </a:solidFill>
                <a:latin typeface="Times New Roman"/>
              </a:rPr>
              <a:t>Do you have a clear picture of exactly why you want to publish the newsletter and what you will say that will be noteworthy, different, or make an impression? Are you publishing the newsletter to educate, train, motivate, promote, share information, give facts, give recognition, or ask for as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Audience—</a:t>
            </a:r>
            <a:r>
              <a:rPr b="0" lang="en-US" sz="1200" spc="-1" strike="noStrike">
                <a:solidFill>
                  <a:srgbClr val="000000"/>
                </a:solidFill>
                <a:latin typeface="Times New Roman"/>
              </a:rPr>
              <a:t>Identifying your target audience ensures that your newsletter will fit the intended readers. Here are some questions you should 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ill they be homemakers, singles, senior adults, or married cou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re they college-age, middle-age, or eld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re their interests similar to your organization’s inter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 the newsletter church-based or se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they been asking for a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time understanding what your target audience needs; take an interest poll if necessary and use the information gathered to help you decide what your target audience wants to read . When you identify your target audience and focus the news to their needs, readability of your newsletter will be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 of News—</a:t>
            </a:r>
            <a:r>
              <a:rPr b="0" lang="en-US" sz="1200" spc="-1" strike="noStrike">
                <a:solidFill>
                  <a:srgbClr val="000000"/>
                </a:solidFill>
                <a:latin typeface="Times New Roman"/>
              </a:rPr>
              <a:t>Information, facts, educational resources, and training material are part of every newsletter. Photographs can be a news item, or provide additional information to a news item. Providing the kind of news your audience requires determines whether your newsletter is read with interest, read simply because the newsletter was mailed to them, or tossed aside un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ber of Readers—</a:t>
            </a:r>
            <a:r>
              <a:rPr b="0" lang="en-US" sz="1200" spc="-1" strike="noStrike">
                <a:solidFill>
                  <a:srgbClr val="000000"/>
                </a:solidFill>
                <a:latin typeface="Times New Roman"/>
              </a:rPr>
              <a:t>Know approximately what your readership will be. Is it 50, 250, or 2500? This can, in part, affect your delivery of the news—the number of pages; type of news shared; size and amount of clip art or photographs used; whether the newsletter is color or black and white; if an in-house printer is used or printing company; and the number of staff members needed for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equency of Publication—</a:t>
            </a:r>
            <a:r>
              <a:rPr b="0" lang="en-US" sz="1200" spc="-1" strike="noStrike">
                <a:solidFill>
                  <a:srgbClr val="000000"/>
                </a:solidFill>
                <a:latin typeface="Times New Roman"/>
              </a:rPr>
              <a:t>Will</a:t>
            </a:r>
            <a:r>
              <a:rPr b="1" lang="en-US" sz="1200" spc="-1" strike="noStrike">
                <a:solidFill>
                  <a:srgbClr val="000000"/>
                </a:solidFill>
                <a:latin typeface="Times New Roman"/>
              </a:rPr>
              <a:t> </a:t>
            </a:r>
            <a:r>
              <a:rPr b="0" lang="en-US" sz="1200" spc="-1" strike="noStrike">
                <a:solidFill>
                  <a:srgbClr val="000000"/>
                </a:solidFill>
                <a:latin typeface="Times New Roman"/>
              </a:rPr>
              <a:t>your newsletter be printed weekly, monthly, or yearly? Can you, or your staff, make a production timetable to get the newsletter to your readers while the news is still current and stick with that schedule? Is there enough news to comfortably support the printing schedule you select? Are there adequate funds to begin and maintain production? These things determine the number of times per year the newsletter should be produc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124000" y="585720"/>
            <a:ext cx="2978280" cy="2233800"/>
          </a:xfrm>
          <a:prstGeom prst="rect">
            <a:avLst/>
          </a:prstGeom>
          <a:ln w="0">
            <a:noFill/>
          </a:ln>
        </p:spPr>
      </p:sp>
      <p:sp>
        <p:nvSpPr>
          <p:cNvPr id="152"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F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akes a team of dedicated workers to produce a quality newsletter. Consider qualifications, expertise, talents, interests, and the role each worker will fill. Some of the key positions are: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a:t>
            </a:r>
            <a:r>
              <a:rPr b="0" lang="en-US" sz="1200" spc="-1" strike="noStrike">
                <a:solidFill>
                  <a:srgbClr val="000000"/>
                </a:solidFill>
                <a:latin typeface="Times New Roman"/>
              </a:rPr>
              <a:t>—This person is primarily responsible for planning each issue of the newsletter, assigning the editorial, articles, and determining photography needs; setting the production schedule and deadlines; leading the team; editing; proofreading; obtaining copyrights if needed; and verifying accuracy of information. This person needs to possess skills to handle these tasks and have goals and values consistent with the organization (or at least be flexible and open-minded). Prayerfully consider the overall experience of the person under consideration and whether the newsletter would be enhanced if he/she was selec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279520" y="507960"/>
            <a:ext cx="2976840" cy="2232000"/>
          </a:xfrm>
          <a:prstGeom prst="rect">
            <a:avLst/>
          </a:prstGeom>
          <a:ln w="0">
            <a:noFill/>
          </a:ln>
        </p:spPr>
      </p:sp>
      <p:sp>
        <p:nvSpPr>
          <p:cNvPr id="154" name="PlaceHolder 2"/>
          <p:cNvSpPr>
            <a:spLocks noGrp="1"/>
          </p:cNvSpPr>
          <p:nvPr>
            <p:ph type="body"/>
          </p:nvPr>
        </p:nvSpPr>
        <p:spPr>
          <a:xfrm>
            <a:off x="701280" y="3086280"/>
            <a:ext cx="5607000" cy="5513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er(s)—</a:t>
            </a:r>
            <a:r>
              <a:rPr b="0" lang="en-US" sz="1200" spc="-1" strike="noStrike">
                <a:solidFill>
                  <a:srgbClr val="000000"/>
                </a:solidFill>
                <a:latin typeface="Times New Roman"/>
              </a:rPr>
              <a:t>Excellent writing skills are essential whether you have one writer or numerous writers. The writer(s) need the ability to construct sentences and paragraphs well and to make the words practically leap off the page for the reader. Take time to read a variety of writing samples from the writers you are considering. Ask for references from previous organizations regarding their writing abilities. You could possibly even develop several “sample” writing assignments to test their writing skills. Well written articles—that’s the ultimate objectiv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85920" y="762120"/>
            <a:ext cx="2828880" cy="2122200"/>
          </a:xfrm>
          <a:prstGeom prst="rect">
            <a:avLst/>
          </a:prstGeom>
          <a:ln w="0">
            <a:noFill/>
          </a:ln>
        </p:spPr>
      </p:sp>
      <p:sp>
        <p:nvSpPr>
          <p:cNvPr id="156"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otographer(s)</a:t>
            </a:r>
            <a:r>
              <a:rPr b="0" lang="en-US" sz="1200" spc="-1" strike="noStrike">
                <a:solidFill>
                  <a:srgbClr val="000000"/>
                </a:solidFill>
                <a:latin typeface="Times New Roman"/>
              </a:rPr>
              <a:t>—Photographs should be captivating, close up, clearly in focus, and should tell a story even if there are no words. Are you thinking of hiring a professional photographer? If so, discuss your particular photographic needs. Ask for a portfolio of photographs so you can determine if the person has the skills you require. A skilled photographer should be able to adapt to your needs. If you don’t have the budget for a professional photographer, perhaps one of your staff members has good photography skills or an interest in learning and would be willing to take a class. Also, keep in mind that stock photographs are available for purchase and could be useful for informational articles. There may be some free ones available on various websites, but the better quality ones will usually cost mone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73320" y="609480"/>
            <a:ext cx="2930400" cy="2198880"/>
          </a:xfrm>
          <a:prstGeom prst="rect">
            <a:avLst/>
          </a:prstGeom>
          <a:ln w="0">
            <a:noFill/>
          </a:ln>
        </p:spPr>
      </p:sp>
      <p:sp>
        <p:nvSpPr>
          <p:cNvPr id="158"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st</a:t>
            </a:r>
            <a:r>
              <a:rPr b="0" lang="en-US" sz="1200" spc="-1" strike="noStrike">
                <a:solidFill>
                  <a:srgbClr val="000000"/>
                </a:solidFill>
                <a:latin typeface="Times New Roman"/>
              </a:rPr>
              <a:t>—Who will be typing your newsletter—an office assistant, a contract employee, a volunteer, or you? What is their speed and accuracy rate? Having a qualified typist typing the news into a readable format for editing is essential. As a bonus, someone who can also proofread—identifying and correcting grammatical errors, is invaluabl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58920" y="533520"/>
            <a:ext cx="2844720" cy="2133360"/>
          </a:xfrm>
          <a:prstGeom prst="rect">
            <a:avLst/>
          </a:prstGeom>
          <a:ln w="0">
            <a:noFill/>
          </a:ln>
        </p:spPr>
      </p:sp>
      <p:sp>
        <p:nvSpPr>
          <p:cNvPr id="160"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hic Artist</a:t>
            </a:r>
            <a:r>
              <a:rPr b="0" lang="en-US" sz="1200" spc="-1" strike="noStrike">
                <a:solidFill>
                  <a:srgbClr val="000000"/>
                </a:solidFill>
                <a:latin typeface="Times New Roman"/>
              </a:rPr>
              <a:t>—This person will be adept at visualizing the printed page, creating graphics (or finding excellent graphics), and designing the newsletter. Laying out the news, photographs, and graphics in an interesting way will invite the target audience to read the newsletter. Captivating headlines, readable fonts, and interesting clip art or photos with pizzazz are just a few of the things that help produce a successful newsletter, and this person needs to be aware of how all of these things can be utilized to produce a great newslet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274840" y="762120"/>
            <a:ext cx="2422440" cy="1817640"/>
          </a:xfrm>
          <a:prstGeom prst="rect">
            <a:avLst/>
          </a:prstGeom>
          <a:ln w="0">
            <a:noFill/>
          </a:ln>
        </p:spPr>
      </p:sp>
      <p:sp>
        <p:nvSpPr>
          <p:cNvPr id="162"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top Publisher</a:t>
            </a:r>
            <a:r>
              <a:rPr b="0" lang="en-US" sz="1200" spc="-1" strike="noStrike">
                <a:solidFill>
                  <a:srgbClr val="000000"/>
                </a:solidFill>
                <a:latin typeface="Times New Roman"/>
              </a:rPr>
              <a:t>—The desktop publisher uses computer software to arrange the newsletter. This person needs to understand line spacing, headline and text fonts, layout, information boxes, and graphics. (These things will be explained briefly below). Someone with a firm grasp of layout and design or an ability to learn would be a real asset. Allowing this person access to courses in desktop publishing would be invaluable. The desktop publisher and the graphic artist are sometimes the same pers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2F1B4-E5D7-4D63-8D94-FB835FDA3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940CC-49F2-42D9-BDCC-6861BC186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FEFAC-5C27-4F03-9B04-53DAE887C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F7B7F-D0D1-48C4-9D61-78E342EDD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14910-5A53-4280-90E5-7FE3CB47F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CAB2F-39D9-4909-88F3-96558E231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FDAEA-807D-4C17-B2B9-58350B7DD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841F7-BA12-43FF-AE90-916DB8E35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53B38-1394-4667-AB1E-61F860295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6D9F6-6F11-4433-BAF5-120BF3811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7F0C5-71C2-45E5-BDCF-2C83F2F7D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96D2A-1B29-48C4-959E-FDD00E0C5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EE4F5-0345-4689-A102-3615277E1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CCAC0-6FD0-4CE7-AABA-493917933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6A5EC-6B5D-4ABA-B250-2A8FC567D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53586-2CBD-46B9-83E1-7EE8047AB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19032-9522-46AA-829C-5AE1CD1F6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CD805-F48F-4D8C-BC87-0FACEF3C4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4D4FE-281A-4D87-BD0B-159CA6E0F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82AFE-150A-4335-A340-8F0C32472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02A0-5E1E-4EFA-A030-54B54987D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E4C5A-4466-47AB-94C0-1F08ED9B6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0DAA0-0B42-4FD5-9AC2-3F688E755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12D1-E302-4619-B486-35E83B107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D2EB-4BC4-4808-B744-037576E2CE5D}"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83E9-21E3-453E-BBF8-6B29F571E38D}"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Writing and Producing a Newsletter</a:t>
            </a:r>
            <a:endParaRPr b="0" lang="en-US" sz="4400" spc="-1" strike="noStrike">
              <a:solidFill>
                <a:srgbClr val="594717"/>
              </a:solidFill>
              <a:latin typeface="Impact"/>
            </a:endParaRPr>
          </a:p>
        </p:txBody>
      </p:sp>
      <p:sp>
        <p:nvSpPr>
          <p:cNvPr id="90" name="PlaceHolder 2"/>
          <p:cNvSpPr>
            <a:spLocks noGrp="1"/>
          </p:cNvSpPr>
          <p:nvPr>
            <p:ph/>
          </p:nvPr>
        </p:nvSpPr>
        <p:spPr>
          <a:xfrm>
            <a:off x="1219320" y="1752480"/>
            <a:ext cx="7315200" cy="4572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By </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Iris Stovall</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Leadership Certification Level 2</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General Conference</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Women’s Ministries</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Proofreade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e editor, and/or at least one staff member should look over the final product critically and carefully for typographical errors, punctuation mistakes, misspelled words, and poor sentence structure.</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Newsletter Basics: What to Consider</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Your Expectations (or your company’s expectation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Budgets and Other Boring (but necessary) Matter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oftware, Paper, Supplie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taffing</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tion Plan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tion Costs (Printing)</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Distributio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a5776"/>
                </a:solidFill>
                <a:latin typeface="Impact"/>
              </a:rPr>
              <a:t>The News—Heart of Your Newsletter</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904760" y="3200040"/>
            <a:ext cx="464796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c2531"/>
                </a:solidFill>
                <a:latin typeface="Georgia"/>
              </a:rPr>
              <a:t>Hard News Story</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c2531"/>
                </a:solidFill>
                <a:latin typeface="Georgia"/>
              </a:rPr>
              <a:t>Feature Story</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776"/>
                </a:solidFill>
                <a:latin typeface="Impact"/>
              </a:rPr>
              <a:t>Production Schedule</a:t>
            </a:r>
            <a:endParaRPr b="0" lang="en-US" sz="54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lan the Issue</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Give Assignments and Follow Up</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Deadline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a5776"/>
                </a:solidFill>
                <a:latin typeface="Impact"/>
              </a:rPr>
              <a:t>Newsletter Preparation</a:t>
            </a:r>
            <a:endParaRPr b="0" lang="en-US" sz="5700" spc="-1" strike="noStrike">
              <a:solidFill>
                <a:srgbClr val="594717"/>
              </a:solidFill>
              <a:latin typeface="Impact"/>
            </a:endParaRPr>
          </a:p>
        </p:txBody>
      </p:sp>
      <p:sp>
        <p:nvSpPr>
          <p:cNvPr id="130"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fontScale="98000"/>
          </a:bodyPr>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Name Plates and Masthead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Column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Fonts (Typeface)</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Clip Art</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Photograph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Graphs and Charts</a:t>
            </a:r>
            <a:endParaRPr b="0" lang="en-US" sz="3200" spc="-1" strike="noStrike">
              <a:solidFill>
                <a:srgbClr val="3e310f"/>
              </a:solidFill>
              <a:latin typeface="Georgia"/>
            </a:endParaRPr>
          </a:p>
        </p:txBody>
      </p:sp>
      <p:sp>
        <p:nvSpPr>
          <p:cNvPr id="131"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3000"/>
          </a:bodyPr>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Headlines and Sub-headlin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Body Text Font</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Photographs and information box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Text Box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Layout and Design</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33"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35"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685440"/>
            <a:ext cx="7162920" cy="5638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Georgia"/>
              </a:rPr>
              <a:t>Printing</a:t>
            </a:r>
            <a:r>
              <a:rPr b="0" lang="en-US" sz="1800" spc="-1" strike="noStrike">
                <a:solidFill>
                  <a:srgbClr val="3a5776"/>
                </a:solidFill>
                <a:latin typeface="Georgia"/>
              </a:rPr>
              <a:t>  </a:t>
            </a:r>
            <a:br>
              <a:rPr sz="2000"/>
            </a:br>
            <a:br>
              <a:rPr sz="2000"/>
            </a:br>
            <a:r>
              <a:rPr b="0" lang="en-US" sz="4400" spc="-1" strike="noStrike">
                <a:solidFill>
                  <a:srgbClr val="7c2531"/>
                </a:solidFill>
                <a:latin typeface="Georgia"/>
              </a:rPr>
              <a:t>Mailing Preparation</a:t>
            </a:r>
            <a:r>
              <a:rPr b="0" lang="en-US" sz="1800" spc="-1" strike="noStrike">
                <a:solidFill>
                  <a:srgbClr val="3a5776"/>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3a5776"/>
                </a:solidFill>
                <a:latin typeface="Georgia"/>
              </a:rPr>
              <a:t>Mailing Distribution</a:t>
            </a:r>
            <a:r>
              <a:rPr b="0" lang="en-US" sz="1800" spc="-1" strike="noStrike">
                <a:solidFill>
                  <a:srgbClr val="3a5776"/>
                </a:solidFill>
                <a:latin typeface="Georgia"/>
              </a:rPr>
              <a:t> </a:t>
            </a:r>
            <a:br>
              <a:rPr sz="2000"/>
            </a:br>
            <a:br>
              <a:rPr sz="2000"/>
            </a:br>
            <a:r>
              <a:rPr b="0" lang="en-US" sz="4400" spc="-1" strike="noStrike">
                <a:solidFill>
                  <a:srgbClr val="7c2531"/>
                </a:solidFill>
                <a:latin typeface="Georgia"/>
              </a:rPr>
              <a:t>Promotion and Distribution</a:t>
            </a:r>
            <a:r>
              <a:rPr b="0" lang="en-US" sz="1800" spc="-1" strike="noStrike">
                <a:solidFill>
                  <a:srgbClr val="3a5776"/>
                </a:solidFill>
                <a:latin typeface="Georgia"/>
              </a:rPr>
              <a:t> </a:t>
            </a:r>
            <a:br>
              <a:rPr sz="2000"/>
            </a:br>
            <a:br>
              <a:rPr sz="2000"/>
            </a:br>
            <a:r>
              <a:rPr b="0" lang="en-US" sz="4400" spc="-1" strike="noStrike">
                <a:solidFill>
                  <a:srgbClr val="3a5776"/>
                </a:solidFill>
                <a:latin typeface="Georgia"/>
              </a:rPr>
              <a:t>Advertising</a:t>
            </a:r>
            <a:r>
              <a:rPr b="0" lang="en-US" sz="1800" spc="-1" strike="noStrike">
                <a:solidFill>
                  <a:srgbClr val="3a5776"/>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7c2531"/>
                </a:solidFill>
                <a:latin typeface="Georgia"/>
              </a:rPr>
              <a:t>Using Copyright-Protected Materials</a:t>
            </a:r>
            <a:r>
              <a:rPr b="0" lang="en-US" sz="1800" spc="-1" strike="noStrike">
                <a:solidFill>
                  <a:srgbClr val="7c2531"/>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3a5776"/>
                </a:solidFill>
                <a:latin typeface="Georgia"/>
              </a:rPr>
              <a:t>Learning More About Newsletter Production</a:t>
            </a:r>
            <a:endParaRPr b="0" lang="en-US" sz="4400" spc="-1" strike="noStrike">
              <a:solidFill>
                <a:srgbClr val="594717"/>
              </a:solidFill>
              <a:latin typeface="Impact"/>
            </a:endParaRPr>
          </a:p>
        </p:txBody>
      </p:sp>
      <p:pic>
        <p:nvPicPr>
          <p:cNvPr id="137" name="" descr=""/>
          <p:cNvPicPr/>
          <p:nvPr/>
        </p:nvPicPr>
        <p:blipFill>
          <a:blip r:embed="rId2"/>
          <a:stretch/>
        </p:blipFill>
        <p:spPr>
          <a:xfrm>
            <a:off x="1066680" y="609480"/>
            <a:ext cx="1067040" cy="909720"/>
          </a:xfrm>
          <a:prstGeom prst="rect">
            <a:avLst/>
          </a:prstGeom>
          <a:ln w="0">
            <a:noFill/>
          </a:ln>
        </p:spPr>
      </p:pic>
      <p:pic>
        <p:nvPicPr>
          <p:cNvPr id="138" name="" descr=""/>
          <p:cNvPicPr/>
          <p:nvPr/>
        </p:nvPicPr>
        <p:blipFill>
          <a:blip r:embed="rId3"/>
          <a:stretch/>
        </p:blipFill>
        <p:spPr>
          <a:xfrm>
            <a:off x="7620120" y="5181480"/>
            <a:ext cx="1249200" cy="13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4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So You Want to Produce a Newsletter</a:t>
            </a:r>
            <a:endParaRPr b="0" lang="en-US" sz="4400" spc="-1" strike="noStrike">
              <a:solidFill>
                <a:srgbClr val="594717"/>
              </a:solidFill>
              <a:latin typeface="Impact"/>
            </a:endParaRPr>
          </a:p>
        </p:txBody>
      </p:sp>
      <p:sp>
        <p:nvSpPr>
          <p:cNvPr id="92" name="PlaceHolder 2"/>
          <p:cNvSpPr>
            <a:spLocks noGrp="1"/>
          </p:cNvSpPr>
          <p:nvPr>
            <p:ph/>
          </p:nvPr>
        </p:nvSpPr>
        <p:spPr>
          <a:xfrm>
            <a:off x="1904760" y="1676520"/>
            <a:ext cx="5715000" cy="45720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roducing a newsletter is certainly an admirable goal, but couldn’t you just as easily pick up the phone or send an e-mail?  How will having your news in print benefit you or your organization?</a:t>
            </a:r>
            <a:endParaRPr b="0" lang="en-US" sz="3600" spc="-1" strike="noStrike">
              <a:solidFill>
                <a:srgbClr val="3e310f"/>
              </a:solidFill>
              <a:latin typeface="Georgia"/>
            </a:endParaRPr>
          </a:p>
        </p:txBody>
      </p:sp>
      <p:pic>
        <p:nvPicPr>
          <p:cNvPr id="93" name="" descr=""/>
          <p:cNvPicPr/>
          <p:nvPr/>
        </p:nvPicPr>
        <p:blipFill>
          <a:blip r:embed="rId2"/>
          <a:stretch/>
        </p:blipFill>
        <p:spPr>
          <a:xfrm>
            <a:off x="6553080" y="5586480"/>
            <a:ext cx="2362320" cy="1052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Closing Thoughts</a:t>
            </a:r>
            <a:endParaRPr b="0" lang="en-US" sz="4800" spc="-1" strike="noStrike">
              <a:solidFill>
                <a:srgbClr val="594717"/>
              </a:solidFill>
              <a:latin typeface="Impact"/>
            </a:endParaRPr>
          </a:p>
        </p:txBody>
      </p:sp>
      <p:sp>
        <p:nvSpPr>
          <p:cNvPr id="142"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fontScale="93000"/>
          </a:bodyPr>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Write for your intended audienc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Keep the purpose of your newsletter in proper perspectiv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e your news the best way you can with the monies you have availabl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elect your newsletter staff based on expertise, knowledge, availability, and dedication to the company’s objectives.</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Give assignments and deadlines for every issue.</a:t>
            </a:r>
            <a:endParaRPr b="0" lang="en-US" sz="2800" spc="-1" strike="noStrike">
              <a:solidFill>
                <a:srgbClr val="3e310f"/>
              </a:solidFill>
              <a:latin typeface="Georgia"/>
            </a:endParaRPr>
          </a:p>
        </p:txBody>
      </p:sp>
      <p:pic>
        <p:nvPicPr>
          <p:cNvPr id="143"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Closing Thoughts  </a:t>
            </a:r>
            <a:r>
              <a:rPr b="0" lang="en-US" sz="2000" spc="-1" strike="noStrike">
                <a:solidFill>
                  <a:srgbClr val="3a5776"/>
                </a:solidFill>
                <a:latin typeface="Impact"/>
              </a:rPr>
              <a:t>(cont)</a:t>
            </a:r>
            <a:endParaRPr b="0" lang="en-US" sz="2000" spc="-1" strike="noStrike">
              <a:solidFill>
                <a:srgbClr val="594717"/>
              </a:solidFill>
              <a:latin typeface="Impact"/>
            </a:endParaRPr>
          </a:p>
        </p:txBody>
      </p:sp>
      <p:sp>
        <p:nvSpPr>
          <p:cNvPr id="145"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Use an appealing layout and design with fonts that are easy to read.</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Graphics and photos should help tell the story.</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ext boxes can highlight a portion of an article, or provide additional information.</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ofread, proofread, proofread.</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Don’t use someone else’s material without permission.</a:t>
            </a:r>
            <a:endParaRPr b="0" lang="en-US" sz="2800" spc="-1" strike="noStrike">
              <a:solidFill>
                <a:srgbClr val="3e310f"/>
              </a:solidFill>
              <a:latin typeface="Georgia"/>
            </a:endParaRPr>
          </a:p>
        </p:txBody>
      </p:sp>
      <p:pic>
        <p:nvPicPr>
          <p:cNvPr id="146"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Important Things to Consider</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urpose of the Newsletter</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Your Audience</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Type of New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Number of Reader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Frequency of Publication</a:t>
            </a: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is person is primarily responsible for planning each issue; setting schedules and deadlines; leading; editing; proofreading; obtaining copyrights; and verifying accuracy of information. </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Writer(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Excellent writing skills are essential; the writer(s) need the ability to construct sentences and paragraphs well and to make the words practically leap off the page for the reader.</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Photographer(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hotographs should be captivating, close up, clearly in focus, and should tell a story even if there are no word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Typis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Having a qualified typist typing the news into readable format for editing is essential.</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Graphic Artis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is person will be adept at visualizing the printed page, creating graphics (or finding excellent graphics), and designing the newsletter.</a:t>
            </a:r>
            <a:endParaRPr b="0" lang="en-US" sz="2800" spc="-1" strike="noStrike">
              <a:solidFill>
                <a:srgbClr val="3e310f"/>
              </a:solidFill>
              <a:latin typeface="Georgia"/>
            </a:endParaRPr>
          </a:p>
        </p:txBody>
      </p:sp>
      <p:pic>
        <p:nvPicPr>
          <p:cNvPr id="112" name="" descr=""/>
          <p:cNvPicPr/>
          <p:nvPr/>
        </p:nvPicPr>
        <p:blipFill>
          <a:blip r:embed="rId2"/>
          <a:stretch/>
        </p:blipFill>
        <p:spPr>
          <a:xfrm>
            <a:off x="1676520" y="2057400"/>
            <a:ext cx="110304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Desktop Publishe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e desktop publisher uses computer software to arrange the newsletter.  This person needs to understand line spacing, headline and text fonts, layout, information boxes, and graphic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cp:keywords/>
  <dc:language>en-US</dc:language>
  <cp:lastModifiedBy>Melanie Strahle</cp:lastModifiedBy>
  <dcterms:modified xsi:type="dcterms:W3CDTF">2005-11-08T14:19:04Z</dcterms:modified>
  <cp:revision>11</cp:revision>
  <dc:subject> </dc:subject>
  <dc:title>Slide 1</dc:title>
</cp:coreProperties>
</file>